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79437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5841720"/>
            <a:ext cx="1046484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79437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5841720"/>
            <a:ext cx="1046484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79437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5841720"/>
            <a:ext cx="1046484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79437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5841720"/>
            <a:ext cx="1046484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8680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8798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1732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298440" indent="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59652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89496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1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193040">
              <a:spcBef>
                <a:spcPts val="95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193040">
              <a:spcBef>
                <a:spcPts val="950"/>
              </a:spcBef>
              <a:buClr>
                <a:srgbClr val="000000"/>
              </a:buClr>
              <a:buFont typeface="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11304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2" marL="22608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3" marL="33948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4" marL="4525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5" marL="4525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6" marL="4525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310440" y="9258480"/>
            <a:ext cx="369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5C4D3B-59CD-41D6-BFCD-75E04B3F0A4B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1023840"/>
            <a:ext cx="10933200" cy="72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e following are examples of slides I have developed in the past.  I am not limited to these colors, but I wanted to illustrate some of the various combinations I routinely use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e first slide is one I began working on to upgrade  the presentation addressed in this project.  However, I decided it is important enough to seek professional help in developing it.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As I said previously, I wish to have a slide presenting the "Aspects of "Salvation" which is more professional, eye-catching, colorful, yet subdued.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93640" y="8877240"/>
            <a:ext cx="13005000" cy="876240"/>
          </a:xfrm>
          <a:prstGeom prst="rect">
            <a:avLst/>
          </a:prstGeom>
          <a:gradFill rotWithShape="0">
            <a:gsLst>
              <a:gs pos="0">
                <a:srgbClr val="ffffff">
                  <a:alpha val="33333"/>
                </a:srgbClr>
              </a:gs>
              <a:gs pos="100000">
                <a:srgbClr val="ded6c0">
                  <a:alpha val="33333"/>
                </a:srgbClr>
              </a:gs>
            </a:gsLst>
            <a:lin ang="5400000"/>
          </a:gradFill>
          <a:ln w="0">
            <a:noFill/>
          </a:ln>
          <a:effectLst>
            <a:outerShdw dist="76184" dir="16920013" blurRad="0" rotWithShape="0">
              <a:srgbClr val="4d240c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22" name="Untitled-1.png" descr=""/>
          <p:cNvPicPr/>
          <p:nvPr/>
        </p:nvPicPr>
        <p:blipFill>
          <a:blip r:embed="rId2"/>
          <a:stretch/>
        </p:blipFill>
        <p:spPr>
          <a:xfrm>
            <a:off x="74520" y="-8813880"/>
            <a:ext cx="12854160" cy="9637920"/>
          </a:xfrm>
          <a:prstGeom prst="rect">
            <a:avLst/>
          </a:prstGeom>
          <a:ln w="0">
            <a:noFill/>
          </a:ln>
          <a:effectLst>
            <a:outerShdw dist="38120" dir="8444919" blurRad="0" rotWithShape="0">
              <a:srgbClr val="c0c5a9"/>
            </a:outerShdw>
          </a:effectLst>
        </p:spPr>
      </p:pic>
      <p:pic>
        <p:nvPicPr>
          <p:cNvPr id="223" name="dirt-filtered.png" descr=""/>
          <p:cNvPicPr/>
          <p:nvPr/>
        </p:nvPicPr>
        <p:blipFill>
          <a:blip r:embed="rId3"/>
          <a:stretch/>
        </p:blipFill>
        <p:spPr>
          <a:xfrm>
            <a:off x="12201480" y="-1155600"/>
            <a:ext cx="1828800" cy="1979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H="1">
            <a:off x="6143760" y="8966160"/>
            <a:ext cx="7454880" cy="787320"/>
          </a:xfrm>
          <a:prstGeom prst="pie">
            <a:avLst/>
          </a:prstGeom>
          <a:gradFill rotWithShape="0">
            <a:gsLst>
              <a:gs pos="0">
                <a:srgbClr val="ded6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76320" dir="5400000" blurRad="0" rotWithShape="0">
              <a:srgbClr val="4d240c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11080"/>
            <a:ext cx="12750840" cy="0"/>
          </a:xfrm>
          <a:prstGeom prst="line">
            <a:avLst/>
          </a:prstGeom>
          <a:ln w="25560">
            <a:solidFill>
              <a:srgbClr val="cfc5a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6" name=""/>
          <p:cNvSpPr/>
          <p:nvPr/>
        </p:nvSpPr>
        <p:spPr>
          <a:xfrm>
            <a:off x="593640" y="8966160"/>
            <a:ext cx="5600880" cy="787320"/>
          </a:xfrm>
          <a:prstGeom prst="pie">
            <a:avLst/>
          </a:prstGeom>
          <a:gradFill rotWithShape="0">
            <a:gsLst>
              <a:gs pos="0">
                <a:srgbClr val="500c2d"/>
              </a:gs>
              <a:gs pos="100000">
                <a:srgbClr val="9b2e4b"/>
              </a:gs>
            </a:gsLst>
            <a:lin ang="5400000"/>
          </a:gradFill>
          <a:ln w="0">
            <a:noFill/>
          </a:ln>
          <a:effectLst>
            <a:outerShdw dist="76320" dir="5400000" blurRad="0" rotWithShape="0">
              <a:srgbClr val="4d240c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chin"/>
                <a:ea typeface="Cochin"/>
              </a:rPr>
              <a:t>"Prove It" Series - Week 8 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98480" y="4754160"/>
            <a:ext cx="1153152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lnSpc>
                <a:spcPct val="50000"/>
              </a:lnSpc>
              <a:spcBef>
                <a:spcPts val="3600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Cochin"/>
                <a:ea typeface="Cochin"/>
              </a:rPr>
              <a:t>God </a:t>
            </a:r>
            <a:r>
              <a:rPr b="0" lang="en-US" sz="7600" spc="-1" strike="noStrike" u="sng">
                <a:solidFill>
                  <a:srgbClr val="ffffff"/>
                </a:solidFill>
                <a:uFillTx/>
                <a:latin typeface="Cochin"/>
                <a:ea typeface="Cochin"/>
              </a:rPr>
              <a:t>whispers</a:t>
            </a:r>
            <a:r>
              <a:rPr b="0" lang="en-US" sz="7600" spc="-1" strike="noStrike">
                <a:solidFill>
                  <a:srgbClr val="ffffff"/>
                </a:solidFill>
                <a:latin typeface="Cochin"/>
                <a:ea typeface="Cochin"/>
              </a:rPr>
              <a:t> to us in our pleasures,</a:t>
            </a:r>
            <a:endParaRPr b="0" lang="en-US" sz="7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50000"/>
              </a:lnSpc>
              <a:spcBef>
                <a:spcPts val="3600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7600" spc="-1" strike="noStrike" u="sng">
                <a:solidFill>
                  <a:srgbClr val="ffffff"/>
                </a:solidFill>
                <a:uFillTx/>
                <a:latin typeface="Cochin"/>
                <a:ea typeface="Cochin"/>
              </a:rPr>
              <a:t>speaks</a:t>
            </a:r>
            <a:r>
              <a:rPr b="0" lang="en-US" sz="7600" spc="-1" strike="noStrike">
                <a:solidFill>
                  <a:srgbClr val="ffffff"/>
                </a:solidFill>
                <a:latin typeface="Cochin"/>
                <a:ea typeface="Cochin"/>
              </a:rPr>
              <a:t> to us in our conscience, </a:t>
            </a:r>
            <a:endParaRPr b="0" lang="en-US" sz="7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50000"/>
              </a:lnSpc>
              <a:spcBef>
                <a:spcPts val="3600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Cochin"/>
                <a:ea typeface="Cochin"/>
              </a:rPr>
              <a:t>but </a:t>
            </a:r>
            <a:r>
              <a:rPr b="0" lang="en-US" sz="7600" spc="-1" strike="noStrike" u="sng">
                <a:solidFill>
                  <a:srgbClr val="ffffff"/>
                </a:solidFill>
                <a:uFillTx/>
                <a:latin typeface="Cochin"/>
                <a:ea typeface="Cochin"/>
              </a:rPr>
              <a:t>shouts</a:t>
            </a:r>
            <a:r>
              <a:rPr b="0" lang="en-US" sz="7600" spc="-1" strike="noStrike">
                <a:solidFill>
                  <a:srgbClr val="ffffff"/>
                </a:solidFill>
                <a:latin typeface="Cochin"/>
                <a:ea typeface="Cochin"/>
              </a:rPr>
              <a:t> in our pains:</a:t>
            </a:r>
            <a:endParaRPr b="0" lang="en-US" sz="7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50000"/>
              </a:lnSpc>
              <a:spcBef>
                <a:spcPts val="3600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Cochin"/>
                <a:ea typeface="Cochin"/>
              </a:rPr>
              <a:t>it is His megaphone to rouse a deaf world."</a:t>
            </a:r>
            <a:endParaRPr b="0" lang="en-US" sz="7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50000"/>
              </a:lnSpc>
              <a:spcBef>
                <a:spcPts val="3600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Cochin"/>
                <a:ea typeface="Cochin"/>
              </a:rPr>
              <a:t>                                    </a:t>
            </a:r>
            <a:r>
              <a:rPr b="0" lang="en-US" sz="7600" spc="-1" strike="noStrike">
                <a:solidFill>
                  <a:srgbClr val="ffffff"/>
                </a:solidFill>
                <a:latin typeface="Cochin"/>
                <a:ea typeface="Cochin"/>
              </a:rPr>
              <a:t>- C.S. Lewis</a:t>
            </a:r>
            <a:endParaRPr b="0" lang="en-US" sz="7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28" name="InsertedImage.png" descr=""/>
          <p:cNvPicPr/>
          <p:nvPr/>
        </p:nvPicPr>
        <p:blipFill>
          <a:blip r:embed="rId4"/>
          <a:srcRect l="-968" t="-966" r="-968" b="973"/>
          <a:stretch/>
        </p:blipFill>
        <p:spPr>
          <a:xfrm rot="10093800">
            <a:off x="5776560" y="-4680"/>
            <a:ext cx="6229440" cy="4479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310440" y="9258480"/>
            <a:ext cx="369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B97EA2-D7F1-49DB-9781-6656CCBA5C83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310440" y="9258480"/>
            <a:ext cx="369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0D069E-AA66-4A28-9CC5-E03DBF1B0517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3" name=""/>
          <p:cNvSpPr/>
          <p:nvPr/>
        </p:nvSpPr>
        <p:spPr>
          <a:xfrm>
            <a:off x="557280" y="5702400"/>
            <a:ext cx="11888640" cy="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322360" y="1672920"/>
            <a:ext cx="0" cy="5948280"/>
          </a:xfrm>
          <a:prstGeom prst="line">
            <a:avLst/>
          </a:prstGeom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5" name=""/>
          <p:cNvSpPr/>
          <p:nvPr/>
        </p:nvSpPr>
        <p:spPr>
          <a:xfrm>
            <a:off x="1370160" y="6900840"/>
            <a:ext cx="2193840" cy="1905120"/>
          </a:xfrm>
          <a:prstGeom prst="pie">
            <a:avLst/>
          </a:prstGeom>
          <a:solidFill>
            <a:srgbClr val="095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elvetica Light"/>
              </a:rPr>
              <a:t>Freedom</a:t>
            </a:r>
            <a:r>
              <a:rPr b="0" lang="en-US" sz="2400" spc="-1" strike="noStrike">
                <a:solidFill>
                  <a:srgbClr val="ffffff"/>
                </a:solidFill>
                <a:latin typeface="Helvetica Ligh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elvetica Light"/>
              </a:rPr>
              <a:t>from the Penalty for</a:t>
            </a:r>
            <a:r>
              <a:rPr b="0" lang="en-US" sz="2400" spc="-1" strike="noStrike">
                <a:solidFill>
                  <a:srgbClr val="ffffff"/>
                </a:solidFill>
                <a:latin typeface="Helvetica Light"/>
              </a:rPr>
              <a:t> Sin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853560" y="1766520"/>
            <a:ext cx="0" cy="5505480"/>
          </a:xfrm>
          <a:prstGeom prst="line">
            <a:avLst/>
          </a:prstGeom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7" name=""/>
          <p:cNvSpPr/>
          <p:nvPr/>
        </p:nvSpPr>
        <p:spPr>
          <a:xfrm>
            <a:off x="8901000" y="6900840"/>
            <a:ext cx="2186280" cy="1905120"/>
          </a:xfrm>
          <a:prstGeom prst="pie">
            <a:avLst/>
          </a:prstGeom>
          <a:solidFill>
            <a:srgbClr val="095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elvetica Light"/>
              </a:rPr>
              <a:t>Freedom from the</a:t>
            </a:r>
            <a:r>
              <a:rPr b="0" lang="en-US" sz="2400" spc="-1" strike="noStrike">
                <a:solidFill>
                  <a:srgbClr val="ffffff"/>
                </a:solidFill>
                <a:latin typeface="Helvetica Ligh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elvetica Light"/>
              </a:rPr>
              <a:t>Presence</a:t>
            </a:r>
            <a:r>
              <a:rPr b="0" lang="en-US" sz="2400" spc="-1" strike="noStrike">
                <a:solidFill>
                  <a:srgbClr val="ffffff"/>
                </a:solidFill>
                <a:latin typeface="Helvetica Light"/>
              </a:rPr>
              <a:t> of Sin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5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70080" y="3327480"/>
            <a:ext cx="10464840" cy="5715000"/>
          </a:xfrm>
          <a:prstGeom prst="rect">
            <a:avLst/>
          </a:prstGeom>
          <a:solidFill>
            <a:srgbClr val="e6e6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270080" y="2284560"/>
            <a:ext cx="10455120" cy="144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698040"/>
            <a:ext cx="1046484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a7f2f7"/>
                </a:solidFill>
                <a:latin typeface="Helvetica Neue Light"/>
                <a:ea typeface="Helvetica Neue Light"/>
              </a:rPr>
              <a:t>Making Love Last (fill in the blanks)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3351240"/>
            <a:ext cx="104648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93800" indent="-476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Helvetica Neue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Only possible through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Helvetica Neue Light"/>
                <a:ea typeface="Helvetica Neue Light"/>
              </a:rPr>
              <a:t>Jesus Christ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marL="793800" indent="-476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Helvetica Neue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Takes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Helvetica Neue Light"/>
                <a:ea typeface="Helvetica Neue Light"/>
              </a:rPr>
              <a:t>effort</a:t>
            </a:r>
            <a:r>
              <a:rPr b="1" i="1" lang="en-US" sz="3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and time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marL="793800" indent="-476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Helvetica Neue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Must be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Helvetica Neue Light"/>
                <a:ea typeface="Helvetica Neue Light"/>
              </a:rPr>
              <a:t>intentional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marL="793800" indent="-476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Helvetica Neue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Helvetica Neue Light"/>
                <a:ea typeface="Helvetica Neue Light"/>
              </a:rPr>
              <a:t>Includes a great deal of patience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marL="793800" indent="-476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Helvetica Neue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Not changing the other person, but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Helvetica Neue Light"/>
                <a:ea typeface="Helvetica Neue Light"/>
              </a:rPr>
              <a:t>accepting them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  <a:p>
            <a:pPr marL="793800" indent="-476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Helvetica Neue Light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Requires God's agape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Helvetica Neue Light"/>
                <a:ea typeface="Helvetica Neue Light"/>
              </a:rPr>
              <a:t>love of choice</a:t>
            </a:r>
            <a:r>
              <a:rPr b="1" lang="en-US" sz="3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2" name=""/>
          <p:cNvSpPr/>
          <p:nvPr/>
        </p:nvSpPr>
        <p:spPr>
          <a:xfrm>
            <a:off x="6310440" y="9258480"/>
            <a:ext cx="369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1CEA4A-CCA2-47C0-B35C-0536D83E4040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63440" y="-136440"/>
            <a:ext cx="13027680" cy="9763200"/>
            <a:chOff x="163440" y="-136440"/>
            <a:chExt cx="13027680" cy="9763200"/>
          </a:xfrm>
        </p:grpSpPr>
        <p:pic>
          <p:nvPicPr>
            <p:cNvPr id="164" name="imagedDrawable.pdf" descr=""/>
            <p:cNvPicPr/>
            <p:nvPr/>
          </p:nvPicPr>
          <p:blipFill>
            <a:blip r:embed="rId2"/>
            <a:stretch/>
          </p:blipFill>
          <p:spPr>
            <a:xfrm>
              <a:off x="163440" y="8715240"/>
              <a:ext cx="13027680" cy="911520"/>
            </a:xfrm>
            <a:prstGeom prst="rect">
              <a:avLst/>
            </a:prstGeom>
            <a:ln w="0">
              <a:noFill/>
            </a:ln>
            <a:effectLst>
              <a:outerShdw dist="127153" dir="16083182" blurRad="0" rotWithShape="0">
                <a:srgbClr val="000000">
                  <a:alpha val="35000"/>
                </a:srgbClr>
              </a:outerShdw>
            </a:effectLst>
          </p:spPr>
        </p:pic>
        <p:pic>
          <p:nvPicPr>
            <p:cNvPr id="165" name="imagedDrawable.pdf" descr=""/>
            <p:cNvPicPr/>
            <p:nvPr/>
          </p:nvPicPr>
          <p:blipFill>
            <a:blip r:embed="rId3"/>
            <a:stretch/>
          </p:blipFill>
          <p:spPr>
            <a:xfrm>
              <a:off x="163440" y="-136440"/>
              <a:ext cx="13027680" cy="900000"/>
            </a:xfrm>
            <a:prstGeom prst="rect">
              <a:avLst/>
            </a:prstGeom>
            <a:ln w="0">
              <a:noFill/>
            </a:ln>
            <a:effectLst>
              <a:outerShdw dist="127080" dir="54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166" name=""/>
            <p:cNvSpPr/>
            <p:nvPr/>
          </p:nvSpPr>
          <p:spPr>
            <a:xfrm>
              <a:off x="1142280" y="153720"/>
              <a:ext cx="925524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7100" spc="-1" strike="noStrike" u="sng">
                  <a:solidFill>
                    <a:srgbClr val="ee7d15"/>
                  </a:solidFill>
                  <a:uFillTx/>
                  <a:latin typeface="Helvetica Light"/>
                </a:rPr>
                <a:t>FINAL CONCLUSION</a:t>
              </a:r>
              <a:endParaRPr b="0" lang="en-US" sz="71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3240" y="2020320"/>
              <a:ext cx="1099728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4500" spc="-1" strike="noStrike">
                  <a:solidFill>
                    <a:srgbClr val="ee7d15"/>
                  </a:solidFill>
                  <a:latin typeface="Helvetica Light"/>
                </a:rPr>
                <a:t>It is time to make a conscious choice</a:t>
              </a:r>
              <a:endParaRPr b="0" lang="en-US" sz="4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74440" y="2615760"/>
              <a:ext cx="11973600" cy="7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4500" spc="-1" strike="noStrike">
                  <a:solidFill>
                    <a:srgbClr val="ee7d15"/>
                  </a:solidFill>
                  <a:latin typeface="Helvetica Light"/>
                </a:rPr>
                <a:t>to be </a:t>
              </a:r>
              <a:r>
                <a:rPr b="1" i="1" lang="en-US" sz="4500" spc="-1" strike="noStrike" u="sng">
                  <a:solidFill>
                    <a:srgbClr val="ee7d15"/>
                  </a:solidFill>
                  <a:uFillTx/>
                  <a:latin typeface="Helvetica Light"/>
                </a:rPr>
                <a:t>significant </a:t>
              </a:r>
              <a:r>
                <a:rPr b="1" lang="en-US" sz="4500" spc="-1" strike="noStrike">
                  <a:solidFill>
                    <a:srgbClr val="ee7d15"/>
                  </a:solidFill>
                  <a:latin typeface="Helvetica Light"/>
                </a:rPr>
                <a:t>with our time remaining.</a:t>
              </a:r>
              <a:endParaRPr b="0" lang="en-US" sz="4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3240" y="3947040"/>
              <a:ext cx="11887200" cy="7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4500" spc="-1" strike="noStrike">
                  <a:solidFill>
                    <a:srgbClr val="ee7d15"/>
                  </a:solidFill>
                  <a:latin typeface="Helvetica Light"/>
                </a:rPr>
                <a:t>It is time to bring our thoughts into </a:t>
              </a:r>
              <a:r>
                <a:rPr b="1" i="1" lang="en-US" sz="4500" spc="-1" strike="noStrike" u="sng">
                  <a:solidFill>
                    <a:srgbClr val="ee7d15"/>
                  </a:solidFill>
                  <a:uFillTx/>
                  <a:latin typeface="Helvetica Light"/>
                </a:rPr>
                <a:t>action</a:t>
              </a:r>
              <a:endParaRPr b="0" lang="en-US" sz="4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3240" y="5278680"/>
              <a:ext cx="10997280" cy="7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4500" spc="-1" strike="noStrike">
                  <a:solidFill>
                    <a:srgbClr val="ee7d15"/>
                  </a:solidFill>
                  <a:latin typeface="Helvetica Light"/>
                </a:rPr>
                <a:t>It is time to make a significant </a:t>
              </a:r>
              <a:r>
                <a:rPr b="1" i="1" lang="en-US" sz="4500" spc="-1" strike="noStrike" u="sng">
                  <a:solidFill>
                    <a:srgbClr val="ee7d15"/>
                  </a:solidFill>
                  <a:uFillTx/>
                  <a:latin typeface="Helvetica Light"/>
                </a:rPr>
                <a:t>sacrifice</a:t>
              </a:r>
              <a:endParaRPr b="0" lang="en-US" sz="4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17160" y="6000480"/>
              <a:ext cx="11973600" cy="7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4500" spc="-1" strike="noStrike">
                  <a:solidFill>
                    <a:srgbClr val="ee7d15"/>
                  </a:solidFill>
                  <a:latin typeface="Helvetica Light"/>
                </a:rPr>
                <a:t>for the cause of Christ.</a:t>
              </a:r>
              <a:endParaRPr b="0" lang="en-US" sz="4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3240" y="7358040"/>
              <a:ext cx="10997280" cy="79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4500" spc="-1" strike="noStrike">
                  <a:solidFill>
                    <a:srgbClr val="ee7d15"/>
                  </a:solidFill>
                  <a:latin typeface="Helvetica Light"/>
                </a:rPr>
                <a:t>It is time to </a:t>
              </a:r>
              <a:r>
                <a:rPr b="1" i="1" lang="en-US" sz="4500" spc="-1" strike="noStrike" u="sng">
                  <a:solidFill>
                    <a:srgbClr val="ee7d15"/>
                  </a:solidFill>
                  <a:uFillTx/>
                  <a:latin typeface="Helvetica Light"/>
                </a:rPr>
                <a:t>choose  </a:t>
              </a:r>
              <a:r>
                <a:rPr b="1" lang="en-US" sz="4500" spc="-1" strike="noStrike">
                  <a:solidFill>
                    <a:srgbClr val="ee7d15"/>
                  </a:solidFill>
                  <a:latin typeface="Helvetica Light"/>
                </a:rPr>
                <a:t>the radical life.</a:t>
              </a:r>
              <a:endParaRPr b="0" lang="en-US" sz="4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310440" y="9258480"/>
            <a:ext cx="369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9E22D0-EC63-458B-9BE0-54B08361D7AB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520560" y="-360"/>
            <a:ext cx="6654960" cy="248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2d2015">
                <a:alpha val="75000"/>
              </a:srgbClr>
            </a:outerShdw>
          </a:effectLst>
        </p:spPr>
        <p:txBody>
          <a:bodyPr lIns="54360" rIns="54360" tIns="54360" bIns="54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700" spc="-1" strike="noStrike">
                <a:solidFill>
                  <a:srgbClr val="eeea9c"/>
                </a:solidFill>
                <a:latin typeface="Times New Roman"/>
                <a:ea typeface="Times New Roman"/>
              </a:rPr>
              <a:t>The Word of God - 1 John 4:7-11</a:t>
            </a:r>
            <a:endParaRPr b="0" lang="en-US" sz="6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5" name=""/>
          <p:cNvSpPr/>
          <p:nvPr/>
        </p:nvSpPr>
        <p:spPr>
          <a:xfrm>
            <a:off x="414360" y="3137040"/>
            <a:ext cx="763596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eeea9c"/>
                </a:solidFill>
                <a:latin typeface="Times New Roman"/>
                <a:ea typeface="Times New Roman"/>
              </a:rPr>
              <a:t>Love one another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6" name=""/>
          <p:cNvSpPr/>
          <p:nvPr/>
        </p:nvSpPr>
        <p:spPr>
          <a:xfrm>
            <a:off x="414360" y="4241880"/>
            <a:ext cx="7445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eeea9c"/>
                </a:solidFill>
                <a:latin typeface="Times New Roman"/>
                <a:ea typeface="Times New Roman"/>
              </a:rPr>
              <a:t>Love is of God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7" name=""/>
          <p:cNvSpPr/>
          <p:nvPr/>
        </p:nvSpPr>
        <p:spPr>
          <a:xfrm>
            <a:off x="414360" y="5511960"/>
            <a:ext cx="121744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eeea9c"/>
                </a:solidFill>
                <a:latin typeface="Times New Roman"/>
                <a:ea typeface="Times New Roman"/>
              </a:rPr>
              <a:t>God sent His Son - so that we might live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8" name=""/>
          <p:cNvSpPr/>
          <p:nvPr/>
        </p:nvSpPr>
        <p:spPr>
          <a:xfrm>
            <a:off x="522360" y="6780240"/>
            <a:ext cx="11642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eeea9c"/>
                </a:solidFill>
                <a:latin typeface="Times New Roman"/>
                <a:ea typeface="Times New Roman"/>
              </a:rPr>
              <a:t>God loved us when we were unlovable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9" name=""/>
          <p:cNvSpPr/>
          <p:nvPr/>
        </p:nvSpPr>
        <p:spPr>
          <a:xfrm>
            <a:off x="182520" y="2282760"/>
            <a:ext cx="6993000" cy="0"/>
          </a:xfrm>
          <a:prstGeom prst="line">
            <a:avLst/>
          </a:prstGeom>
          <a:ln w="127080">
            <a:solidFill>
              <a:srgbClr val="d3b2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0" name=""/>
          <p:cNvSpPr/>
          <p:nvPr/>
        </p:nvSpPr>
        <p:spPr>
          <a:xfrm>
            <a:off x="414360" y="8050320"/>
            <a:ext cx="1185696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eeea9c"/>
                </a:solidFill>
                <a:latin typeface="Times New Roman"/>
                <a:ea typeface="Times New Roman"/>
              </a:rPr>
              <a:t>If (since) He loved us, we should love</a:t>
            </a:r>
            <a:endParaRPr b="0" lang="en-US" sz="5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1" name=""/>
          <p:cNvSpPr/>
          <p:nvPr/>
        </p:nvSpPr>
        <p:spPr>
          <a:xfrm>
            <a:off x="6310440" y="9258480"/>
            <a:ext cx="369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4A8457-0E75-48E0-8490-DD0E4FC62CD4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492120"/>
            <a:ext cx="6786360" cy="8383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2d2015">
                <a:alpha val="75000"/>
              </a:srgbClr>
            </a:outerShdw>
          </a:effectLst>
        </p:spPr>
        <p:txBody>
          <a:bodyPr lIns="54360" rIns="54360" tIns="54360" bIns="54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9300" spc="-1" strike="noStrike">
                <a:solidFill>
                  <a:srgbClr val="ee7d15"/>
                </a:solidFill>
                <a:latin typeface="Gill Sans"/>
                <a:ea typeface="Gill Sans"/>
              </a:rPr>
              <a:t>" Am I practicing a </a:t>
            </a:r>
            <a:r>
              <a:rPr b="1" i="1" lang="en-US" sz="9300" spc="-1" strike="noStrike" u="sng">
                <a:solidFill>
                  <a:srgbClr val="ee7d15"/>
                </a:solidFill>
                <a:uFillTx/>
                <a:latin typeface="Gill Sans"/>
                <a:ea typeface="Gill Sans"/>
              </a:rPr>
              <a:t>radical</a:t>
            </a:r>
            <a:r>
              <a:rPr b="1" lang="en-US" sz="9300" spc="-1" strike="noStrike">
                <a:solidFill>
                  <a:srgbClr val="ee7d15"/>
                </a:solidFill>
                <a:latin typeface="Gill Sans"/>
                <a:ea typeface="Gill Sans"/>
              </a:rPr>
              <a:t> faith in Jesus  Christ? "</a:t>
            </a:r>
            <a:br>
              <a:rPr sz="9300"/>
            </a:br>
            <a:r>
              <a:rPr b="1" i="1" lang="en-US" sz="9300" spc="-1" strike="noStrike">
                <a:solidFill>
                  <a:srgbClr val="ee7d15"/>
                </a:solidFill>
                <a:latin typeface="Gill Sans"/>
                <a:ea typeface="Gill Sans"/>
              </a:rPr>
              <a:t>     </a:t>
            </a:r>
            <a:r>
              <a:rPr b="1" i="1" lang="en-US" sz="5000" spc="-1" strike="noStrike">
                <a:solidFill>
                  <a:srgbClr val="2d153d"/>
                </a:solidFill>
                <a:latin typeface="Gill Sans"/>
                <a:ea typeface="Gill Sans"/>
              </a:rPr>
              <a:t>or</a:t>
            </a:r>
            <a:br>
              <a:rPr sz="9300"/>
            </a:br>
            <a:r>
              <a:rPr b="1" lang="en-US" sz="9300" spc="-1" strike="noStrike">
                <a:solidFill>
                  <a:srgbClr val="ee7d15"/>
                </a:solidFill>
                <a:latin typeface="Gill Sans"/>
                <a:ea typeface="Gill Sans"/>
              </a:rPr>
              <a:t>"Am I practicing a </a:t>
            </a:r>
            <a:r>
              <a:rPr b="1" i="1" lang="en-US" sz="9300" spc="-1" strike="noStrike" u="sng">
                <a:solidFill>
                  <a:srgbClr val="ee7d15"/>
                </a:solidFill>
                <a:uFillTx/>
                <a:latin typeface="Gill Sans"/>
                <a:ea typeface="Gill Sans"/>
              </a:rPr>
              <a:t>comfortable</a:t>
            </a:r>
            <a:r>
              <a:rPr b="1" lang="en-US" sz="9300" spc="-1" strike="noStrike">
                <a:solidFill>
                  <a:srgbClr val="ee7d15"/>
                </a:solidFill>
                <a:latin typeface="Gill Sans"/>
                <a:ea typeface="Gill Sans"/>
              </a:rPr>
              <a:t> faith in Jesus Christ?"</a:t>
            </a:r>
            <a:endParaRPr b="0" lang="en-US" sz="93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 rot="20342400">
            <a:off x="-56880" y="176040"/>
            <a:ext cx="2200320" cy="1162080"/>
          </a:xfrm>
          <a:prstGeom prst="rect">
            <a:avLst/>
          </a:prstGeom>
          <a:ln w="0">
            <a:noFill/>
          </a:ln>
          <a:effectLst>
            <a:outerShdw dist="2556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184" name=""/>
          <p:cNvSpPr/>
          <p:nvPr/>
        </p:nvSpPr>
        <p:spPr>
          <a:xfrm>
            <a:off x="6310440" y="9258480"/>
            <a:ext cx="369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0A9DD4-BD14-46F3-BA91-885F83D8E0D1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f9e"/>
            </a:gs>
            <a:gs pos="100000">
              <a:srgbClr val="4254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32000" y="2273400"/>
            <a:ext cx="10385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720" bIns="-457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9720" y="698040"/>
            <a:ext cx="10464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  <a:ea typeface="Gill Sans"/>
              </a:rPr>
              <a:t>Applications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081240"/>
            <a:ext cx="3129120" cy="1390680"/>
          </a:xfrm>
          <a:prstGeom prst="rect">
            <a:avLst/>
          </a:prstGeom>
          <a:solidFill>
            <a:srgbClr val="f8b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Gill Sans"/>
              </a:rPr>
              <a:t>1.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8" name=""/>
          <p:cNvSpPr/>
          <p:nvPr/>
        </p:nvSpPr>
        <p:spPr>
          <a:xfrm>
            <a:off x="4659480" y="3081240"/>
            <a:ext cx="3270240" cy="1260720"/>
          </a:xfrm>
          <a:prstGeom prst="rect">
            <a:avLst/>
          </a:prstGeom>
          <a:solidFill>
            <a:srgbClr val="f8b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Gill Sans"/>
              </a:rPr>
              <a:t>2.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9" name=""/>
          <p:cNvSpPr/>
          <p:nvPr/>
        </p:nvSpPr>
        <p:spPr>
          <a:xfrm>
            <a:off x="9232920" y="3046320"/>
            <a:ext cx="3265560" cy="1206720"/>
          </a:xfrm>
          <a:prstGeom prst="rect">
            <a:avLst/>
          </a:prstGeom>
          <a:solidFill>
            <a:srgbClr val="f8b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"/>
                <a:ea typeface="Gill Sans"/>
              </a:rPr>
              <a:t>3.</a:t>
            </a:r>
            <a:endParaRPr b="0" lang="en-US" sz="6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4253040"/>
            <a:ext cx="3129120" cy="4556160"/>
          </a:xfrm>
          <a:prstGeom prst="rect">
            <a:avLst/>
          </a:prstGeom>
          <a:solidFill>
            <a:srgbClr val="dbdbdc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58760">
              <a:lnSpc>
                <a:spcPct val="120000"/>
              </a:lnSpc>
              <a:buClr>
                <a:srgbClr val="000000"/>
              </a:buClr>
              <a:buSzPct val="75000"/>
              <a:buFont typeface="Gill Sans"/>
              <a:buChar char="‣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Gill Sans"/>
              </a:rPr>
              <a:t>Evaluate yourself</a:t>
            </a: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1" name=""/>
          <p:cNvSpPr/>
          <p:nvPr/>
        </p:nvSpPr>
        <p:spPr>
          <a:xfrm>
            <a:off x="4659480" y="4253040"/>
            <a:ext cx="3270240" cy="4618080"/>
          </a:xfrm>
          <a:prstGeom prst="rect">
            <a:avLst/>
          </a:prstGeom>
          <a:solidFill>
            <a:srgbClr val="dbdbdc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58760">
              <a:lnSpc>
                <a:spcPct val="120000"/>
              </a:lnSpc>
              <a:buClr>
                <a:srgbClr val="000000"/>
              </a:buClr>
              <a:buSzPct val="75000"/>
              <a:buFont typeface="Gill Sans"/>
              <a:buChar char="‣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Gill Sans"/>
              </a:rPr>
              <a:t>Take action</a:t>
            </a: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  <a:p>
            <a:pPr marL="158760">
              <a:lnSpc>
                <a:spcPct val="120000"/>
              </a:lnSpc>
              <a:buClr>
                <a:srgbClr val="000000"/>
              </a:buClr>
              <a:buSzPct val="75000"/>
              <a:buFont typeface="Gill Sans"/>
              <a:buChar char="‣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Gill Sans"/>
              </a:rPr>
              <a:t>(write down)</a:t>
            </a: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  <a:p>
            <a:pPr marL="158760">
              <a:lnSpc>
                <a:spcPct val="120000"/>
              </a:lnSpc>
              <a:buClr>
                <a:srgbClr val="000000"/>
              </a:buClr>
              <a:buSzPct val="75000"/>
              <a:buFont typeface="Gill Sans"/>
              <a:buChar char="‣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Gill Sans"/>
              </a:rPr>
              <a:t>(spend time)</a:t>
            </a: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2" name=""/>
          <p:cNvSpPr/>
          <p:nvPr/>
        </p:nvSpPr>
        <p:spPr>
          <a:xfrm>
            <a:off x="9232920" y="4253040"/>
            <a:ext cx="3265560" cy="4618080"/>
          </a:xfrm>
          <a:prstGeom prst="rect">
            <a:avLst/>
          </a:prstGeom>
          <a:solidFill>
            <a:srgbClr val="dbdbdc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58760">
              <a:lnSpc>
                <a:spcPct val="120000"/>
              </a:lnSpc>
              <a:buClr>
                <a:srgbClr val="000000"/>
              </a:buClr>
              <a:buSzPct val="75000"/>
              <a:buFont typeface="Gill Sans"/>
              <a:buChar char="‣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Gill Sans"/>
              </a:rPr>
              <a:t>Plan to attend NOW</a:t>
            </a: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  <a:p>
            <a:pPr marL="158760">
              <a:lnSpc>
                <a:spcPct val="120000"/>
              </a:lnSpc>
              <a:buClr>
                <a:srgbClr val="000000"/>
              </a:buClr>
              <a:buSzPct val="75000"/>
              <a:buFont typeface="Gill Sans"/>
              <a:buChar char="‣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Gill Sans"/>
              </a:rPr>
              <a:t>Apr 29 </a:t>
            </a: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  <a:p>
            <a:pPr marL="158760">
              <a:lnSpc>
                <a:spcPct val="120000"/>
              </a:lnSpc>
              <a:buClr>
                <a:srgbClr val="000000"/>
              </a:buClr>
              <a:buSzPct val="75000"/>
              <a:buFont typeface="Gill Sans"/>
              <a:buChar char="‣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Gill Sans"/>
              </a:rPr>
              <a:t>at 7:00 pm</a:t>
            </a: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  <a:p>
            <a:pPr marL="158760">
              <a:lnSpc>
                <a:spcPct val="120000"/>
              </a:lnSpc>
              <a:buClr>
                <a:srgbClr val="000000"/>
              </a:buClr>
              <a:buSzPct val="75000"/>
              <a:buFont typeface="Gill Sans"/>
              <a:buChar char="‣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  <a:ea typeface="Gill Sans"/>
              </a:rPr>
              <a:t>Worship and communion</a:t>
            </a:r>
            <a:endParaRPr b="0" lang="en-US" sz="3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3" name=""/>
          <p:cNvSpPr/>
          <p:nvPr/>
        </p:nvSpPr>
        <p:spPr>
          <a:xfrm>
            <a:off x="7929720" y="4098960"/>
            <a:ext cx="1468440" cy="1841400"/>
          </a:xfrm>
          <a:prstGeom prst="rightArrow">
            <a:avLst>
              <a:gd name="adj1" fmla="val 50343"/>
              <a:gd name="adj2" fmla="val 41528"/>
            </a:avLst>
          </a:prstGeom>
          <a:solidFill>
            <a:srgbClr val="f8b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4" name=""/>
          <p:cNvSpPr/>
          <p:nvPr/>
        </p:nvSpPr>
        <p:spPr>
          <a:xfrm>
            <a:off x="3349800" y="4095720"/>
            <a:ext cx="1430280" cy="1847880"/>
          </a:xfrm>
          <a:prstGeom prst="rightArrow">
            <a:avLst>
              <a:gd name="adj1" fmla="val 50343"/>
              <a:gd name="adj2" fmla="val 42616"/>
            </a:avLst>
          </a:prstGeom>
          <a:solidFill>
            <a:srgbClr val="f8b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5" name=""/>
          <p:cNvSpPr/>
          <p:nvPr/>
        </p:nvSpPr>
        <p:spPr>
          <a:xfrm>
            <a:off x="6310440" y="9258480"/>
            <a:ext cx="369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79ABC1-4C71-46C4-A524-372375719F10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0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13000" y="8407440"/>
            <a:ext cx="9855360" cy="1270080"/>
          </a:xfrm>
          <a:prstGeom prst="rect">
            <a:avLst/>
          </a:prstGeom>
          <a:solidFill>
            <a:srgbClr val="97a633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7" name=""/>
          <p:cNvSpPr/>
          <p:nvPr/>
        </p:nvSpPr>
        <p:spPr>
          <a:xfrm>
            <a:off x="-101520" y="8407440"/>
            <a:ext cx="3301920" cy="1270080"/>
          </a:xfrm>
          <a:prstGeom prst="rect">
            <a:avLst/>
          </a:prstGeom>
          <a:solidFill>
            <a:srgbClr val="d4b63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63760" y="1744200"/>
            <a:ext cx="9601200" cy="33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  <a:ea typeface="Arial"/>
              </a:rPr>
              <a:t>The Purpose of Good Works</a:t>
            </a:r>
            <a:endParaRPr b="0" lang="en-US" sz="8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16400" y="8572320"/>
            <a:ext cx="960120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Helvetica Neue UltraLight"/>
                <a:ea typeface="Helvetica Neue UltraLight"/>
              </a:rPr>
              <a:t>Ephesians 2:1-10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0" name=""/>
          <p:cNvSpPr/>
          <p:nvPr/>
        </p:nvSpPr>
        <p:spPr>
          <a:xfrm>
            <a:off x="6310440" y="9258480"/>
            <a:ext cx="369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F02B03-88A4-439B-844C-5BE44987DF66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5170320" y="2246760"/>
            <a:ext cx="6583680" cy="61200"/>
            <a:chOff x="5170320" y="2246760"/>
            <a:chExt cx="6583680" cy="61200"/>
          </a:xfrm>
        </p:grpSpPr>
        <p:pic>
          <p:nvPicPr>
            <p:cNvPr id="202" name="droppedImage.tiff" descr=""/>
            <p:cNvPicPr/>
            <p:nvPr/>
          </p:nvPicPr>
          <p:blipFill>
            <a:blip r:embed="rId2"/>
            <a:stretch/>
          </p:blipFill>
          <p:spPr>
            <a:xfrm rot="16200000">
              <a:off x="7626240" y="-208800"/>
              <a:ext cx="61200" cy="49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droppedImage.tiff" descr=""/>
            <p:cNvPicPr/>
            <p:nvPr/>
          </p:nvPicPr>
          <p:blipFill>
            <a:blip r:embed="rId3"/>
            <a:stretch/>
          </p:blipFill>
          <p:spPr>
            <a:xfrm rot="16200000">
              <a:off x="9231120" y="-214560"/>
              <a:ext cx="61200" cy="498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1447920" y="2250000"/>
            <a:ext cx="6583680" cy="61200"/>
            <a:chOff x="1447920" y="2250000"/>
            <a:chExt cx="6583680" cy="61200"/>
          </a:xfrm>
        </p:grpSpPr>
        <p:pic>
          <p:nvPicPr>
            <p:cNvPr id="205" name="droppedImage.tiff" descr=""/>
            <p:cNvPicPr/>
            <p:nvPr/>
          </p:nvPicPr>
          <p:blipFill>
            <a:blip r:embed="rId4"/>
            <a:stretch/>
          </p:blipFill>
          <p:spPr>
            <a:xfrm rot="16200000">
              <a:off x="3903840" y="-205560"/>
              <a:ext cx="61200" cy="49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droppedImage.tiff" descr=""/>
            <p:cNvPicPr/>
            <p:nvPr/>
          </p:nvPicPr>
          <p:blipFill>
            <a:blip r:embed="rId5"/>
            <a:stretch/>
          </p:blipFill>
          <p:spPr>
            <a:xfrm rot="16200000">
              <a:off x="5508720" y="-211320"/>
              <a:ext cx="61200" cy="498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698040"/>
            <a:ext cx="10464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The Word of God - Luke 18:18-27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322960" y="2871720"/>
            <a:ext cx="3735720" cy="6591600"/>
            <a:chOff x="5322960" y="2871720"/>
            <a:chExt cx="3735720" cy="6591600"/>
          </a:xfrm>
        </p:grpSpPr>
        <p:sp>
          <p:nvSpPr>
            <p:cNvPr id="209" name=""/>
            <p:cNvSpPr/>
            <p:nvPr/>
          </p:nvSpPr>
          <p:spPr>
            <a:xfrm>
              <a:off x="7855560" y="4987440"/>
              <a:ext cx="1203120" cy="1851120"/>
            </a:xfrm>
            <a:prstGeom prst="rightArrow">
              <a:avLst>
                <a:gd name="adj1" fmla="val 50343"/>
                <a:gd name="adj2" fmla="val 51065"/>
              </a:avLst>
            </a:prstGeom>
            <a:solidFill>
              <a:srgbClr val="5f6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22960" y="2871720"/>
              <a:ext cx="2647440" cy="2661840"/>
            </a:xfrm>
            <a:prstGeom prst="rect">
              <a:avLst/>
            </a:prstGeom>
            <a:solidFill>
              <a:srgbClr val="81605b"/>
            </a:solidFill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elvetica Neue Light"/>
                  <a:ea typeface="Helvetica Neue Light"/>
                </a:rPr>
                <a:t>"Do these things"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22960" y="5533560"/>
              <a:ext cx="2647440" cy="392976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58760">
                <a:lnSpc>
                  <a:spcPct val="120000"/>
                </a:lnSpc>
                <a:buClr>
                  <a:srgbClr val="000000"/>
                </a:buClr>
                <a:buSzPct val="75000"/>
                <a:buFont typeface="Helvetica Neue Light"/>
                <a:buChar char="•"/>
                <a:tabLst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Which command-ments did Jesus mention?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  <a:p>
              <a:pPr marL="158760">
                <a:lnSpc>
                  <a:spcPct val="120000"/>
                </a:lnSpc>
                <a:buClr>
                  <a:srgbClr val="000000"/>
                </a:buClr>
                <a:buSzPct val="75000"/>
                <a:buFont typeface="Helvetica Neue Light"/>
                <a:buChar char="•"/>
                <a:tabLst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Which did He omit?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9061560" y="2870280"/>
            <a:ext cx="3045240" cy="6631200"/>
            <a:chOff x="9061560" y="2870280"/>
            <a:chExt cx="3045240" cy="6631200"/>
          </a:xfrm>
        </p:grpSpPr>
        <p:sp>
          <p:nvSpPr>
            <p:cNvPr id="213" name=""/>
            <p:cNvSpPr/>
            <p:nvPr/>
          </p:nvSpPr>
          <p:spPr>
            <a:xfrm>
              <a:off x="9061560" y="2870280"/>
              <a:ext cx="3045240" cy="2547720"/>
            </a:xfrm>
            <a:prstGeom prst="rect">
              <a:avLst/>
            </a:prstGeom>
            <a:solidFill>
              <a:srgbClr val="81605b"/>
            </a:solidFill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elvetica Neue Light"/>
                  <a:ea typeface="Helvetica Neue Light"/>
                </a:rPr>
                <a:t>"There's one more thing"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061560" y="5406480"/>
              <a:ext cx="3019320" cy="409500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58760">
                <a:lnSpc>
                  <a:spcPct val="120000"/>
                </a:lnSpc>
                <a:buClr>
                  <a:srgbClr val="000000"/>
                </a:buClr>
                <a:buSzPct val="75000"/>
                <a:buFont typeface="Helvetica Neue Light"/>
                <a:buChar char="•"/>
                <a:tabLst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Responses by: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  <a:p>
              <a:pPr marL="158760">
                <a:lnSpc>
                  <a:spcPct val="120000"/>
                </a:lnSpc>
                <a:buClr>
                  <a:srgbClr val="000000"/>
                </a:buClr>
                <a:buSzPct val="75000"/>
                <a:buFont typeface="Helvetica Neue Light"/>
                <a:buChar char="•"/>
                <a:tabLst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Young man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  <a:p>
              <a:pPr marL="158760">
                <a:lnSpc>
                  <a:spcPct val="120000"/>
                </a:lnSpc>
                <a:buClr>
                  <a:srgbClr val="000000"/>
                </a:buClr>
                <a:buSzPct val="75000"/>
                <a:buFont typeface="Helvetica Neue Light"/>
                <a:buChar char="•"/>
                <a:tabLst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Jesus 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  <a:p>
              <a:pPr marL="158760">
                <a:lnSpc>
                  <a:spcPct val="120000"/>
                </a:lnSpc>
                <a:buClr>
                  <a:srgbClr val="000000"/>
                </a:buClr>
                <a:buSzPct val="75000"/>
                <a:buFont typeface="Helvetica Neue Light"/>
                <a:buChar char="•"/>
                <a:tabLst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Crowd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  <a:p>
              <a:pPr marL="158760">
                <a:lnSpc>
                  <a:spcPct val="120000"/>
                </a:lnSpc>
                <a:buClr>
                  <a:srgbClr val="000000"/>
                </a:buClr>
                <a:buSzPct val="75000"/>
                <a:buFont typeface="Helvetica Neue Light"/>
                <a:buChar char="•"/>
                <a:tabLst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Jesus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589040" y="2914560"/>
            <a:ext cx="3716640" cy="6591600"/>
            <a:chOff x="1589040" y="2914560"/>
            <a:chExt cx="3716640" cy="6591600"/>
          </a:xfrm>
        </p:grpSpPr>
        <p:sp>
          <p:nvSpPr>
            <p:cNvPr id="216" name=""/>
            <p:cNvSpPr/>
            <p:nvPr/>
          </p:nvSpPr>
          <p:spPr>
            <a:xfrm>
              <a:off x="1589040" y="2914560"/>
              <a:ext cx="2525760" cy="2661840"/>
            </a:xfrm>
            <a:prstGeom prst="rect">
              <a:avLst/>
            </a:prstGeom>
            <a:solidFill>
              <a:srgbClr val="81605b"/>
            </a:solidFill>
            <a:ln w="12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elvetica Neue Light"/>
                  <a:ea typeface="Helvetica Neue Light"/>
                </a:rPr>
                <a:t>"Why do you call Me    </a:t>
              </a:r>
              <a:r>
                <a:rPr b="0" i="1" lang="en-US" sz="3600" spc="-1" strike="noStrike" u="sng">
                  <a:solidFill>
                    <a:srgbClr val="ffffff"/>
                  </a:solidFill>
                  <a:uFillTx/>
                  <a:latin typeface="Helvetica Neue Light"/>
                  <a:ea typeface="Helvetica Neue Light"/>
                </a:rPr>
                <a:t>good</a:t>
              </a:r>
              <a:r>
                <a:rPr b="0" lang="en-US" sz="3600" spc="-1" strike="noStrike">
                  <a:solidFill>
                    <a:srgbClr val="ffffff"/>
                  </a:solidFill>
                  <a:latin typeface="Helvetica Neue Light"/>
                  <a:ea typeface="Helvetica Neue Light"/>
                </a:rPr>
                <a:t> ?"</a:t>
              </a: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200" y="5576400"/>
              <a:ext cx="2514240" cy="392976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  <a:effectLst>
              <a:outerShdw dist="12600" dir="54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58760">
                <a:lnSpc>
                  <a:spcPct val="120000"/>
                </a:lnSpc>
                <a:buClr>
                  <a:srgbClr val="000000"/>
                </a:buClr>
                <a:buSzPct val="75000"/>
                <a:buFont typeface="Helvetica Neue Light"/>
                <a:buChar char="•"/>
                <a:tabLst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Only God is good.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  <a:p>
              <a:pPr marL="158760">
                <a:lnSpc>
                  <a:spcPct val="120000"/>
                </a:lnSpc>
                <a:buClr>
                  <a:srgbClr val="000000"/>
                </a:buClr>
                <a:buSzPct val="75000"/>
                <a:buFont typeface="Helvetica Neue Light"/>
                <a:buChar char="•"/>
                <a:tabLst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Does the rich young ruler know what he is saying?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  <a:p>
              <a:pPr marL="158760">
                <a:lnSpc>
                  <a:spcPct val="120000"/>
                </a:lnSpc>
                <a:buClr>
                  <a:srgbClr val="000000"/>
                </a:buClr>
                <a:buSzPct val="75000"/>
                <a:buFont typeface="Helvetica Neue Light"/>
                <a:buChar char="•"/>
                <a:tabLst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00400" y="4992840"/>
              <a:ext cx="1205280" cy="1851120"/>
            </a:xfrm>
            <a:prstGeom prst="rightArrow">
              <a:avLst>
                <a:gd name="adj1" fmla="val 50343"/>
                <a:gd name="adj2" fmla="val 51065"/>
              </a:avLst>
            </a:prstGeom>
            <a:solidFill>
              <a:srgbClr val="5f6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11169720" y="98280"/>
            <a:ext cx="1879560" cy="2575080"/>
          </a:xfrm>
          <a:prstGeom prst="rect">
            <a:avLst/>
          </a:prstGeom>
          <a:ln w="0">
            <a:noFill/>
          </a:ln>
          <a:effectLst>
            <a:outerShdw dist="2556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220" name=""/>
          <p:cNvSpPr/>
          <p:nvPr/>
        </p:nvSpPr>
        <p:spPr>
          <a:xfrm>
            <a:off x="6310440" y="9258480"/>
            <a:ext cx="369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F37D7A-017A-4171-A7FF-1B3A30D7F665}" type="slidenum">
              <a:rPr b="0" lang="en-U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